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385A-FFBB-47D9-B249-F2884A42D3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D644-9445-48C2-AAF5-F89EF340B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518-4320-42A2-89D4-78FDFDAD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9B2-05DA-4B80-8FB7-7E2822C4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9F4-32A4-4378-ADEE-4CFC26E2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B9B-E985-4205-A1EF-CD3AC1A1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46E39-0A98-4A40-9CFC-5E345C59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F8986-79BF-41FD-A472-9203A2AC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6285C-1FF2-44BC-A295-18D8C3C5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D59F6-5CE8-4942-940D-2B154749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18553-8178-40F1-A447-72BD102C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5C786-5ED2-470A-91A3-439DB4F6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FCB75-A89B-4EB9-AC93-D21124BC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A93-D5D2-4900-884D-87C1CC7B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081E5-D1BA-4356-BE67-56BFB170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6C3C6-236E-4207-A0EF-0CEA6783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B4258-D00D-4228-95C1-3C2D176E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6D16-696D-466F-9DF2-E1B4CB4E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3260B-9A0B-4331-901E-500C903E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6B61-0524-4CD9-9193-F136A7FA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CFEB-AC79-4939-A00E-141A531D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9E33-4641-4369-A6B9-63D11F96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69A4-A7D0-47FF-A8BB-9828725F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5AED-0815-4EF3-BAEC-7D33869B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2F9-6E78-4F42-B194-E8C565C2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731D-EA5C-4CE3-A138-E12727EB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46B0-5AEB-4CBB-ACE2-3668095D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072D-D86A-4E43-95DD-F5C6B6F4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A0EB-9B67-42D4-9B77-6F9D6FBE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3F89-AD3D-4B7C-81BB-2A6E025E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B419-C4E8-4793-B74C-D2C53846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02A3-0040-432A-B3D2-9AB66488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C54F51-39EC-4BBD-83CF-D9DCAB67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437A0-BD51-4FFC-A4B5-58CFE666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D2C14-DC23-4DB0-9FF9-A0838FC4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134-D5DB-494C-A378-147F4640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F104F-F821-413C-8165-B3A8C0BF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BE8595-7D21-4198-9665-404ACA66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88A77C-754B-4AAC-866D-6FB0E048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88C15-3C15-4EC4-A6DF-89529480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E4C25-7426-423A-A562-10AFCB39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61C9F-A2B9-41A8-8F35-EF45D69B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D27F1-7893-4307-B0F3-DD1A301E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5980C-B95A-4B4A-86D3-2AA3D0B6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F8ED1-EB40-4A64-B358-7CFD5908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F92-05FA-455C-8C6C-E0ECF8F1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CA0-8BD3-4151-8074-1769FC42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160-B516-4F49-8AA8-3EA55F3C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60D-DEC7-4B13-AAB4-EF129EA1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D80-D3BF-44F4-BC2C-09ED153B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A4B8-0EA1-4DC6-8B60-390F006B7C77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3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4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5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9906-1B68-482F-B03A-D9032D3230D7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3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D499-C19C-4CEE-9D74-E7E31B466ED9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D00E-0BE8-4E5E-B7F5-57657DF5AB8B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1f497d"/>
              </a:solidFill>
              <a:latin typeface="Verdana"/>
            </a:endParaRPr>
          </a:p>
        </p:txBody>
      </p:sp>
      <p:pic>
        <p:nvPicPr>
          <p:cNvPr id="178" name="Рисунок 5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-6480" y="2279520"/>
            <a:ext cx="9156960" cy="229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"/>
          <p:cNvPicPr/>
          <p:nvPr/>
        </p:nvPicPr>
        <p:blipFill>
          <a:blip r:embed="rId1"/>
          <a:srcRect l="0" t="0" r="0" b="-31"/>
          <a:stretch/>
        </p:blipFill>
        <p:spPr>
          <a:xfrm>
            <a:off x="357120" y="928800"/>
            <a:ext cx="3497400" cy="4786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rcRect l="0" t="0" r="0" b="-94"/>
          <a:stretch/>
        </p:blipFill>
        <p:spPr>
          <a:xfrm>
            <a:off x="4106880" y="928800"/>
            <a:ext cx="4503600" cy="47862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785880" y="357120"/>
            <a:ext cx="3373200" cy="2786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429080" y="285840"/>
            <a:ext cx="3915000" cy="29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591000" cy="2689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571680" y="3357720"/>
            <a:ext cx="3857400" cy="2893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633240" y="353880"/>
            <a:ext cx="7937640" cy="138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71320" y="214308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ffc000"/>
                </a:solidFill>
                <a:latin typeface="Comic Sans MS"/>
              </a:rPr>
              <a:t>В морі риба камбала,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ff00ff"/>
                </a:solidFill>
                <a:latin typeface="Comic Sans MS"/>
              </a:rPr>
              <a:t>Невелика, немала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ffff00"/>
                </a:solidFill>
                <a:latin typeface="Comic Sans MS"/>
              </a:rPr>
              <a:t>Дуже схожа на млинець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00ccff"/>
                </a:solidFill>
                <a:latin typeface="Comic Sans MS"/>
              </a:rPr>
              <a:t>Хто спіймає – молодець!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781200" y="189000"/>
            <a:ext cx="7935840" cy="97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440" y="1428480"/>
            <a:ext cx="8101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1. </a:t>
            </a: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За заготовленим ескізом в кольорі наносимо легкий малюнок простим олівцем і поступово розфарбовуємо кольор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2. </a:t>
            </a:r>
            <a:r>
              <a:rPr b="1" lang="uk-UA" sz="2800" spc="-1" strike="noStrike">
                <a:solidFill>
                  <a:srgbClr val="ff9933"/>
                </a:solidFill>
                <a:latin typeface="Comic Sans MS"/>
              </a:rPr>
              <a:t>Дати час своїй рибі підсохну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1" lang="uk-UA" sz="2800" spc="-1" strike="noStrike">
                <a:solidFill>
                  <a:srgbClr val="00ff00"/>
                </a:solidFill>
                <a:latin typeface="Comic Sans MS"/>
              </a:rPr>
              <a:t>Покриваємо рибку тонким шаром клею П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4.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Дати знову час своїй рибі підсохну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5. </a:t>
            </a:r>
            <a:r>
              <a:rPr b="1" lang="uk-UA" sz="2800" spc="-1" strike="noStrike">
                <a:solidFill>
                  <a:srgbClr val="ff99ff"/>
                </a:solidFill>
                <a:latin typeface="Comic Sans MS"/>
              </a:rPr>
              <a:t>Протягнути крізь декоративні отвори на рибі стрічку</a:t>
            </a:r>
            <a:r>
              <a:rPr b="1" lang="uk-UA" sz="2000" spc="-1" strike="noStrike">
                <a:solidFill>
                  <a:srgbClr val="ff99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-85680" y="1365120"/>
            <a:ext cx="5022720" cy="307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5072040" y="399960"/>
            <a:ext cx="3500640" cy="5958000"/>
          </a:xfrm>
          <a:prstGeom prst="rect">
            <a:avLst/>
          </a:prstGeom>
          <a:ln w="0">
            <a:noFill/>
          </a:ln>
        </p:spPr>
      </p:pic>
      <p:pic>
        <p:nvPicPr>
          <p:cNvPr id="211" name="Людвиг_ван_Бетховен_-_Музыка_ангелов_-_(mp3poisk.net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156040" cy="207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3429000" y="3571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285840" y="25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142920" y="435780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2571840" y="214200"/>
            <a:ext cx="3193920" cy="2138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6072120" y="2428920"/>
            <a:ext cx="2884680" cy="1928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7"/>
          <a:stretch/>
        </p:blipFill>
        <p:spPr>
          <a:xfrm>
            <a:off x="5857920" y="142920"/>
            <a:ext cx="3108240" cy="20718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1" descr=""/>
          <p:cNvPicPr/>
          <p:nvPr/>
        </p:nvPicPr>
        <p:blipFill>
          <a:blip r:embed="rId8"/>
          <a:stretch/>
        </p:blipFill>
        <p:spPr>
          <a:xfrm>
            <a:off x="208080" y="2262240"/>
            <a:ext cx="8240760" cy="1322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9"/>
          <a:stretch/>
        </p:blipFill>
        <p:spPr>
          <a:xfrm>
            <a:off x="5929200" y="44290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1279440" y="560520"/>
            <a:ext cx="6224760" cy="60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0" t="0" r="-2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1" descr=""/>
          <p:cNvPicPr/>
          <p:nvPr/>
        </p:nvPicPr>
        <p:blipFill>
          <a:blip r:embed="rId2"/>
          <a:stretch/>
        </p:blipFill>
        <p:spPr>
          <a:xfrm>
            <a:off x="566640" y="1182600"/>
            <a:ext cx="8242560" cy="21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rcRect l="0" t="0" r="-50" b="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rcRect l="0" t="0" r="-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5715000" y="2857680"/>
            <a:ext cx="2633760" cy="3354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2928960" y="285840"/>
            <a:ext cx="3071880" cy="3051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571680" y="2714760"/>
            <a:ext cx="251136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855960" cy="4000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rcRect l="0" t="0" r="0" b="105"/>
          <a:stretch/>
        </p:blipFill>
        <p:spPr>
          <a:xfrm>
            <a:off x="4143240" y="2201760"/>
            <a:ext cx="4429440" cy="4227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8:31:06Z</dcterms:created>
  <dc:creator>Стас</dc:creator>
  <dc:description/>
  <dc:language>en-US</dc:language>
  <cp:lastModifiedBy>Admin</cp:lastModifiedBy>
  <dcterms:modified xsi:type="dcterms:W3CDTF">2014-11-01T07:10:19Z</dcterms:modified>
  <cp:revision>58</cp:revision>
  <dc:subject/>
  <dc:title>СКУЛЬПТУРА.  ЧАРІВНІ РИБК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22000000000001024140</vt:lpwstr>
  </property>
</Properties>
</file>