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29D3-49FD-4CD6-A6E1-81F059AA0C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F20B-CD61-4D6E-BB9A-2A20EB2EA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E67-F77E-4D74-9DE5-163B9D0E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956-D360-4814-B520-40DA9ACC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9C3-A7CE-4386-A48F-B7F4B052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8F6-1042-4946-B5D8-1A9487ED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B359F-D7B6-45A0-9487-FE1CF810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2ED54-01B3-417B-9839-1B24D7AF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E1B8E-3EBD-45C9-9B6C-7EBBCAE0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1FB12-33DA-4BF2-9D74-220D2FE4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200CE-FD8F-4A21-996D-2E7D2F67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6A5FA-5006-46CE-8DBA-EA47AA81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C02B4-A641-48AF-8585-D94DF815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21B-DA1D-4567-9BDB-412F6645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65A29-6AE1-484B-BD91-33B5DF9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39236-F73D-4974-8609-EBFD8903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EE93B-602A-4977-9AE2-1C589CBF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5AE6A-DCFD-47CC-94E9-6FFCB2F7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182FC-F8FF-407D-86A8-D784FE0B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8F25-7859-4131-B498-E7711086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290F-49B6-4270-86D4-6C4FD8A4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61D00-5C91-4F53-86EC-E2CB5D71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36AE-CAFE-4876-9E10-FCF326AF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12F1-566A-45B0-BD0E-3CE9F1F7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6F9-63CF-4265-8095-6315A353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BAD95-CC33-446C-B78D-27168699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547A-41A6-416C-96C6-ACA3506F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D91F-C21C-4281-88A7-288C4388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3EF2-D28A-4353-BC2C-AA30A96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5935-48EE-43B9-BABC-DB370630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70DD8-BB28-42CA-A1B0-390D20C8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21BD-21B7-4ED7-A02C-CB070CF0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DD6978-4769-41D1-98A0-F2A008BB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597B3-BBA0-4D56-9A34-1ADB2D0B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2DD1F-7DF0-41C7-BAD9-88311773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F3F-9E26-4EEB-A857-FBE34D7C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3A414-DAA1-42FA-8412-734B7E7D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3FBCDE-9CAD-4D20-A405-F2C4AD6E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C71E3-1B9E-44F7-8D3C-EEFCFE1F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5C41E-D662-450D-A390-FDF879FF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EFC45-2DF0-45E8-A9CE-B536A31A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93C73-72E2-4419-8094-5B149807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F4AA7-DD1F-44C1-B999-51EB7227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B0452-1064-43B6-9EC2-89C4D64E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D53EC-2DBA-4937-987B-7810EF00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431-595F-4819-A726-11B580C3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707-BECB-4080-87C7-E2E8E13A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7D8-88FD-484B-A0DE-B7E52B86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815-7ACA-4CD9-B777-77BD619F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3B6-295F-4B01-B91A-C989CB8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8E4F-1557-4870-A33E-03205C563209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3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4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5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1997-0D21-48C7-9482-D3F955B18C3F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3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546F-3976-487E-B875-16CD0F6DED8F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F7E-7334-4237-8D70-FCCBC0AE2640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1f497d"/>
              </a:solidFill>
              <a:latin typeface="Verdana"/>
            </a:endParaRPr>
          </a:p>
        </p:txBody>
      </p:sp>
      <p:pic>
        <p:nvPicPr>
          <p:cNvPr id="178" name="Рисунок 5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-6480" y="2279520"/>
            <a:ext cx="9156960" cy="229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"/>
          <p:cNvPicPr/>
          <p:nvPr/>
        </p:nvPicPr>
        <p:blipFill>
          <a:blip r:embed="rId1"/>
          <a:srcRect l="0" t="0" r="0" b="-31"/>
          <a:stretch/>
        </p:blipFill>
        <p:spPr>
          <a:xfrm>
            <a:off x="357120" y="928800"/>
            <a:ext cx="3497400" cy="4786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rcRect l="0" t="0" r="0" b="-94"/>
          <a:stretch/>
        </p:blipFill>
        <p:spPr>
          <a:xfrm>
            <a:off x="4106880" y="928800"/>
            <a:ext cx="4503600" cy="47862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785880" y="357120"/>
            <a:ext cx="3373200" cy="2786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429080" y="285840"/>
            <a:ext cx="3915000" cy="29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591000" cy="2689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571680" y="3357720"/>
            <a:ext cx="3857400" cy="2893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633240" y="353880"/>
            <a:ext cx="7937640" cy="138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71320" y="214308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ffc000"/>
                </a:solidFill>
                <a:latin typeface="Comic Sans MS"/>
              </a:rPr>
              <a:t>В морі риба камбала,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ff00ff"/>
                </a:solidFill>
                <a:latin typeface="Comic Sans MS"/>
              </a:rPr>
              <a:t>Невелика, немала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ffff00"/>
                </a:solidFill>
                <a:latin typeface="Comic Sans MS"/>
              </a:rPr>
              <a:t>Дуже схожа на млинець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00ccff"/>
                </a:solidFill>
                <a:latin typeface="Comic Sans MS"/>
              </a:rPr>
              <a:t>Хто спіймає – молодець!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781200" y="189000"/>
            <a:ext cx="7935840" cy="97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440" y="1428480"/>
            <a:ext cx="8101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1. </a:t>
            </a: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За заготовленим ескізом в кольорі наносимо легкий малюнок простим олівцем і поступово розфарбовуємо кольор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2. </a:t>
            </a:r>
            <a:r>
              <a:rPr b="1" lang="uk-UA" sz="2800" spc="-1" strike="noStrike">
                <a:solidFill>
                  <a:srgbClr val="ff9933"/>
                </a:solidFill>
                <a:latin typeface="Comic Sans MS"/>
              </a:rPr>
              <a:t>Дати час своїй рибі підсохну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1" lang="uk-UA" sz="2800" spc="-1" strike="noStrike">
                <a:solidFill>
                  <a:srgbClr val="00ff00"/>
                </a:solidFill>
                <a:latin typeface="Comic Sans MS"/>
              </a:rPr>
              <a:t>Покриваємо рибку тонким шаром клею П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4.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Дати знову час своїй рибі підсохну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5. </a:t>
            </a:r>
            <a:r>
              <a:rPr b="1" lang="uk-UA" sz="2800" spc="-1" strike="noStrike">
                <a:solidFill>
                  <a:srgbClr val="ff99ff"/>
                </a:solidFill>
                <a:latin typeface="Comic Sans MS"/>
              </a:rPr>
              <a:t>Протягнути крізь декоративні отвори на рибі стрічку</a:t>
            </a:r>
            <a:r>
              <a:rPr b="1" lang="uk-UA" sz="2000" spc="-1" strike="noStrike">
                <a:solidFill>
                  <a:srgbClr val="ff99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-85680" y="1365120"/>
            <a:ext cx="5022720" cy="307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5072040" y="399960"/>
            <a:ext cx="3500640" cy="5958000"/>
          </a:xfrm>
          <a:prstGeom prst="rect">
            <a:avLst/>
          </a:prstGeom>
          <a:ln w="0">
            <a:noFill/>
          </a:ln>
        </p:spPr>
      </p:pic>
      <p:pic>
        <p:nvPicPr>
          <p:cNvPr id="211" name="Людвиг_ван_Бетховен_-_Музыка_ангелов_-_(mp3poisk.net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156040" cy="207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3429000" y="3571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285840" y="25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142920" y="435780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2571840" y="214200"/>
            <a:ext cx="3193920" cy="2138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6072120" y="2428920"/>
            <a:ext cx="2884680" cy="1928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7"/>
          <a:stretch/>
        </p:blipFill>
        <p:spPr>
          <a:xfrm>
            <a:off x="5857920" y="142920"/>
            <a:ext cx="3108240" cy="20718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1" descr=""/>
          <p:cNvPicPr/>
          <p:nvPr/>
        </p:nvPicPr>
        <p:blipFill>
          <a:blip r:embed="rId8"/>
          <a:stretch/>
        </p:blipFill>
        <p:spPr>
          <a:xfrm>
            <a:off x="208080" y="2262240"/>
            <a:ext cx="8240760" cy="1322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9"/>
          <a:stretch/>
        </p:blipFill>
        <p:spPr>
          <a:xfrm>
            <a:off x="5929200" y="44290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1279440" y="560520"/>
            <a:ext cx="6224760" cy="60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0" t="0" r="-2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1" descr=""/>
          <p:cNvPicPr/>
          <p:nvPr/>
        </p:nvPicPr>
        <p:blipFill>
          <a:blip r:embed="rId2"/>
          <a:stretch/>
        </p:blipFill>
        <p:spPr>
          <a:xfrm>
            <a:off x="566640" y="1182600"/>
            <a:ext cx="8242560" cy="21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rcRect l="0" t="0" r="-50" b="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rcRect l="0" t="0" r="-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5715000" y="2857680"/>
            <a:ext cx="2633760" cy="3354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2928960" y="285840"/>
            <a:ext cx="3071880" cy="3051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571680" y="2714760"/>
            <a:ext cx="251136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855960" cy="4000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rcRect l="0" t="0" r="0" b="105"/>
          <a:stretch/>
        </p:blipFill>
        <p:spPr>
          <a:xfrm>
            <a:off x="4143240" y="2201760"/>
            <a:ext cx="4429440" cy="4227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8:31:06Z</dcterms:created>
  <dc:creator>Стас</dc:creator>
  <dc:description/>
  <dc:language>en-US</dc:language>
  <cp:lastModifiedBy>Admin</cp:lastModifiedBy>
  <dcterms:modified xsi:type="dcterms:W3CDTF">2014-11-01T07:10:19Z</dcterms:modified>
  <cp:revision>58</cp:revision>
  <dc:subject/>
  <dc:title>СКУЛЬПТУРА.  ЧАРІВНІ РИБК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22000000000001024140</vt:lpwstr>
  </property>
</Properties>
</file>