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985A-1E01-416A-B69F-B2D7AC878B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957C-9801-458E-A88F-0995C14B3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8CC-72A4-4714-B77C-C4A051CD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7CE-810F-4ADC-8DFE-0DFF55C4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FD3-A4EA-4E51-974D-748AFC10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36D-79EA-444A-8225-E7238EDB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C1FC1-3895-4B40-ADE7-89ACD1B4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6B441-47FD-490B-90BB-880BCE4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2A7C0-D2A2-46B3-A0CE-50BFC364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CF446-F53B-4B9A-8651-EC9390BD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2B78D-44CE-43F3-9366-50F6F986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AAE7B-C8AF-4642-857C-3219F9CE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DA7B3-9421-4603-97CF-F6CC7B5B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E8F2-DFDE-4C8A-AD6B-CCF3AF3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D4F6B-744D-4AD4-B99B-57E61802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BABC6-EF2C-4930-BE21-17C44CA0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8E85D-736A-489D-BCCC-AF23BACF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6F269-3D58-4AD5-9CD1-FC8869FC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07ADB-6BBA-4F92-A003-E7260476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0E6C-C0FD-444C-B7BF-44DB5A31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0C7F-6F79-4BF1-ACFC-09E8D193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BCF0-6A31-47BE-9642-1E60B227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9397-6575-4D31-8334-424549C6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14B6-02CF-46F1-97BD-A78A59ED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3CB-8A42-4D6E-B5DE-C24D8A60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C1B0-0EBE-4A8A-9D51-7292F047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13EA-EB38-4FAF-8BE6-262B972B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737D-26F9-4361-9568-9D458F2E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4264-B5FC-4046-872B-99F7A71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114A-AA08-4D9F-B4FF-F8B0714F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0C3C7-A4E7-409A-9A93-1D445B72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93DF0-2A49-4243-9420-7EC8D7A3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7426F-07EB-436A-93FD-47C1C740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13061-3A77-4996-B401-4F6AED19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E72F3-6ECE-4436-9701-491B1F52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56D-8BD5-4197-BD7B-B50A297A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4B221-5137-41B0-8A4F-0984E46D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863F9-6F4D-49B9-B470-98EE86D9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766C77-68BA-4A0F-A39F-C6DF9E97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CC211-C3FC-4C2C-AAA6-CA258A8A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AE2AD-FF11-432D-8824-6DA65BE5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6E79C-447C-486F-986D-06BEC205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7CCABC-0770-4EBF-BAF8-E1F56949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CF1BD-5F01-4054-AA55-E261C3D2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E39028-6A8E-4DA4-8FB9-A6CBCE4E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85D-387A-43F7-935F-C296EAD3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8E6-D985-47B3-8769-9C64D7AD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D01-4FF6-4E80-A701-EB68D371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382-3481-4F64-B928-8EA7982A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AD5-269A-4FCD-9EFF-7FEE2678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13BD-712B-4690-95E3-BF930B9D9FDB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3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4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5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C825-8CD1-4F92-9D89-0860A0E87BF5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3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F711-89DE-4902-9CB9-B5475E487002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615D-8F8D-4419-99EE-C1965EFAE677}" type="slidenum">
              <a:rPr b="0" lang="ru-RU" sz="16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1f497d"/>
              </a:solidFill>
              <a:latin typeface="Verdana"/>
            </a:endParaRPr>
          </a:p>
        </p:txBody>
      </p:sp>
      <p:pic>
        <p:nvPicPr>
          <p:cNvPr id="178" name="Рисунок 5" descr="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-6480" y="2279520"/>
            <a:ext cx="9156960" cy="229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"/>
          <p:cNvPicPr/>
          <p:nvPr/>
        </p:nvPicPr>
        <p:blipFill>
          <a:blip r:embed="rId1"/>
          <a:srcRect l="0" t="0" r="0" b="-31"/>
          <a:stretch/>
        </p:blipFill>
        <p:spPr>
          <a:xfrm>
            <a:off x="357120" y="928800"/>
            <a:ext cx="3497400" cy="4786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rcRect l="0" t="0" r="0" b="-94"/>
          <a:stretch/>
        </p:blipFill>
        <p:spPr>
          <a:xfrm>
            <a:off x="4106880" y="928800"/>
            <a:ext cx="4503600" cy="47862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785880" y="357120"/>
            <a:ext cx="3373200" cy="2786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429080" y="285840"/>
            <a:ext cx="3915000" cy="29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3591000" cy="2689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4"/>
          <a:stretch/>
        </p:blipFill>
        <p:spPr>
          <a:xfrm>
            <a:off x="571680" y="3357720"/>
            <a:ext cx="3857400" cy="2893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633240" y="353880"/>
            <a:ext cx="7937640" cy="138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71320" y="214308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ffc000"/>
                </a:solidFill>
                <a:latin typeface="Comic Sans MS"/>
              </a:rPr>
              <a:t>В морі риба камбала,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ff00ff"/>
                </a:solidFill>
                <a:latin typeface="Comic Sans MS"/>
              </a:rPr>
              <a:t>Невелика, немала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ffff00"/>
                </a:solidFill>
                <a:latin typeface="Comic Sans MS"/>
              </a:rPr>
              <a:t>Дуже схожа на млинець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700" spc="-1" strike="noStrike">
                <a:solidFill>
                  <a:srgbClr val="00ccff"/>
                </a:solidFill>
                <a:latin typeface="Comic Sans MS"/>
              </a:rPr>
              <a:t>Хто спіймає – молодець!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781200" y="189000"/>
            <a:ext cx="7935840" cy="97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440" y="1428480"/>
            <a:ext cx="8101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1. </a:t>
            </a:r>
            <a:r>
              <a:rPr b="1" lang="uk-UA" sz="2800" spc="-1" strike="noStrike">
                <a:solidFill>
                  <a:srgbClr val="ffff00"/>
                </a:solidFill>
                <a:latin typeface="Comic Sans MS"/>
              </a:rPr>
              <a:t>За заготовленим ескізом в кольорі наносимо легкий малюнок простим олівцем і поступово розфарбовуємо кольор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2. </a:t>
            </a:r>
            <a:r>
              <a:rPr b="1" lang="uk-UA" sz="2800" spc="-1" strike="noStrike">
                <a:solidFill>
                  <a:srgbClr val="ff9933"/>
                </a:solidFill>
                <a:latin typeface="Comic Sans MS"/>
              </a:rPr>
              <a:t>Дати час своїй рибі підсохну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1" lang="uk-UA" sz="2800" spc="-1" strike="noStrike">
                <a:solidFill>
                  <a:srgbClr val="00ff00"/>
                </a:solidFill>
                <a:latin typeface="Comic Sans MS"/>
              </a:rPr>
              <a:t>Покриваємо рибку тонким шаром клею П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4.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Дати знову час своїй рибі підсохну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5. </a:t>
            </a:r>
            <a:r>
              <a:rPr b="1" lang="uk-UA" sz="2800" spc="-1" strike="noStrike">
                <a:solidFill>
                  <a:srgbClr val="ff99ff"/>
                </a:solidFill>
                <a:latin typeface="Comic Sans MS"/>
              </a:rPr>
              <a:t>Протягнути крізь декоративні отвори на рибі стрічку</a:t>
            </a:r>
            <a:r>
              <a:rPr b="1" lang="uk-UA" sz="2000" spc="-1" strike="noStrike">
                <a:solidFill>
                  <a:srgbClr val="ff99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Заголовок 1" descr=""/>
          <p:cNvPicPr/>
          <p:nvPr/>
        </p:nvPicPr>
        <p:blipFill>
          <a:blip r:embed="rId1"/>
          <a:stretch/>
        </p:blipFill>
        <p:spPr>
          <a:xfrm>
            <a:off x="-85680" y="1365120"/>
            <a:ext cx="5022720" cy="307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5072040" y="399960"/>
            <a:ext cx="3500640" cy="5958000"/>
          </a:xfrm>
          <a:prstGeom prst="rect">
            <a:avLst/>
          </a:prstGeom>
          <a:ln w="0">
            <a:noFill/>
          </a:ln>
        </p:spPr>
      </p:pic>
      <p:pic>
        <p:nvPicPr>
          <p:cNvPr id="211" name="Людвиг_ван_Бетховен_-_Музыка_ангелов_-_(mp3poisk.net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156040" cy="207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3429000" y="3571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285840" y="2500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142920" y="435780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2571840" y="214200"/>
            <a:ext cx="3193920" cy="2138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6072120" y="2428920"/>
            <a:ext cx="2884680" cy="1928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7"/>
          <a:stretch/>
        </p:blipFill>
        <p:spPr>
          <a:xfrm>
            <a:off x="5857920" y="142920"/>
            <a:ext cx="3108240" cy="20718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1" descr=""/>
          <p:cNvPicPr/>
          <p:nvPr/>
        </p:nvPicPr>
        <p:blipFill>
          <a:blip r:embed="rId8"/>
          <a:stretch/>
        </p:blipFill>
        <p:spPr>
          <a:xfrm>
            <a:off x="208080" y="2262240"/>
            <a:ext cx="8240760" cy="1322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9"/>
          <a:stretch/>
        </p:blipFill>
        <p:spPr>
          <a:xfrm>
            <a:off x="5929200" y="44290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1279440" y="560520"/>
            <a:ext cx="6224760" cy="60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0" t="0" r="-2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1" descr=""/>
          <p:cNvPicPr/>
          <p:nvPr/>
        </p:nvPicPr>
        <p:blipFill>
          <a:blip r:embed="rId2"/>
          <a:stretch/>
        </p:blipFill>
        <p:spPr>
          <a:xfrm>
            <a:off x="566640" y="1182600"/>
            <a:ext cx="8242560" cy="2114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rcRect l="0" t="0" r="-50" b="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rcRect l="0" t="0" r="-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5715000" y="2857680"/>
            <a:ext cx="2633760" cy="3354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2928960" y="285840"/>
            <a:ext cx="3071880" cy="3051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3"/>
          <a:stretch/>
        </p:blipFill>
        <p:spPr>
          <a:xfrm>
            <a:off x="571680" y="2714760"/>
            <a:ext cx="251136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855960" cy="4000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rcRect l="0" t="0" r="0" b="105"/>
          <a:stretch/>
        </p:blipFill>
        <p:spPr>
          <a:xfrm>
            <a:off x="4143240" y="2201760"/>
            <a:ext cx="4429440" cy="4227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8:31:06Z</dcterms:created>
  <dc:creator>Стас</dc:creator>
  <dc:description/>
  <dc:language>en-US</dc:language>
  <cp:lastModifiedBy>Admin</cp:lastModifiedBy>
  <dcterms:modified xsi:type="dcterms:W3CDTF">2014-11-01T07:10:19Z</dcterms:modified>
  <cp:revision>58</cp:revision>
  <dc:subject/>
  <dc:title>СКУЛЬПТУРА.  ЧАРІВНІ РИБК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22000000000001024140</vt:lpwstr>
  </property>
</Properties>
</file>