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377-FD61-4500-9F52-56377CC5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C92-B2A4-42BA-9A2E-09B13C8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151-4F0F-4B14-BBB0-9385C5E1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DDF-F3F0-4BC9-9C72-4A2DBB6D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4D05-2AE3-4CB3-B34A-EBB23663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4AE-0DEB-4737-8DFA-8DEA3CF4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0DFE-5FA4-4729-A8C8-FA2FBCB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788-C0B0-4DB5-B201-0CBDC78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6F1-3AD4-40BE-B396-540F5F4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0F4E-6E2F-49BE-9C83-4F1EAAE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308-8FF5-4B45-9362-3997394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6E2-4CA5-4A66-B9A9-81ADF67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CDEC-0B65-45AA-85A4-BC626F8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031-3CE4-4B54-92C3-E933633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BA5-9488-4097-A73A-1012525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6BD9-393A-4026-A59A-1D502192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A193-2B3E-429E-9757-912ACE4D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584-1ED3-4CC0-987D-DA8B262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29B-0E24-41A2-9C02-1F138F6F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EE-C741-42C5-BE81-D0EA9A9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A15-FA12-442B-A630-50E3BE7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76F-F392-44B1-BC0C-C89C343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BD2-7666-4E84-A625-47C5C98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689-AD53-4168-9A0E-CAA5BA4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2576-799D-43E8-8D5E-4435AC4BF3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955-D9AF-40D4-B85B-34C06BD3B73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Myriad Web Pro Condensed"/>
              </a:rPr>
              <a:t>Поле</a:t>
            </a: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хіна О.Л., 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вчитель образотворчого мистецтва КЗО “Середня загальноосвітня школа № 27”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Дніпропетровської міської ра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“</a:t>
            </a: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ВИСЯЧІ САДИ СЕМІРАМІДИ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Myriad Web Pro Condensed"/>
              </a:rPr>
              <a:t>з циклу бесід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Сім чудес світу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Далі археологічні дослідження країни між двома річками розпочав Поль Еміль Ботта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( 1802-1870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3123720"/>
            <a:ext cx="8534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Ще більшого                       успіху, ніж Ботта, добився своїми розкопками Остен Генрі Лейярд ( 1817-1894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Ще більшого                       успіху, ніж Ботта, добився своїми розкопками Остен Генрі Лейярд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 ( 1817-1894).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4" descr="C:\DOCUME~1\727B~1.7C3\LOCALS~1\Temp\~DEST\0002iw\сканирование002.bmp"/>
          <p:cNvPicPr/>
          <p:nvPr/>
        </p:nvPicPr>
        <p:blipFill>
          <a:blip r:embed="rId1"/>
          <a:stretch/>
        </p:blipFill>
        <p:spPr>
          <a:xfrm>
            <a:off x="152280" y="457200"/>
            <a:ext cx="41911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214272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Частину своїх знахідок він показав 1854 року на виставці в Лондоні, де збудував навіть реконструйоване подвір”яасірійського царя з воєнними та мисливськими сценами, картинками облоги замку й життя двору тощо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cc"/>
                </a:solidFill>
                <a:latin typeface="Comic Sans MS"/>
              </a:rPr>
              <a:t>Зала Хорсабадського палац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 Реконструкція за Ботта і Лейярдом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C:\DOCUME~1\727B~1.7C3\LOCALS~1\Temp\~DEST\0001iw\сканирование002.bmp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Comic Sans MS"/>
              </a:rPr>
              <a:t>Найбільшим відкриттям, яке на той час зробив Лейярд, був палац Ашшурбаніпала ІІ – один з найбільших палаців на берегах Тігру, а в ньому дві кімнати, повні книг. Книги на глиняних табличках. Бібліотека, що мала 20 000 табличок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51055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Вавілон, що його відвідав Геродот, був Вавілон царя Навуходоносора ІІ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28954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4" descr="C:\DOCUME~1\727B~1.7C3\LOCALS~1\Temp\~DEST\0003iw\сканирование002.bmp"/>
          <p:cNvPicPr/>
          <p:nvPr/>
        </p:nvPicPr>
        <p:blipFill>
          <a:blip r:embed="rId1"/>
          <a:stretch/>
        </p:blipFill>
        <p:spPr>
          <a:xfrm>
            <a:off x="2971800" y="228600"/>
            <a:ext cx="61722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Рештки Вавілонської вежі, розкопані Кольдевеєм. Це все, що залишилося від споруди, “вершечок якої торкався неба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6" descr="C:\DOCUME~1\727B~1.7C3\LOCALS~1\Temp\~DEST\0004iw\сканирование002.bmp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З усіх вавілонських чудес світу за найбільше вважали “висячі сади” Семіраміди. Не мури, що були ведетенські , не вежу, що була колосальна, не Мардуків шлях, що був лише монументальний, - а споруду, що визначалася всіма цими властивостями і крім них, ще й надзвичайною красою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8658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1030" descr="C:\DOCUME~1\727B~1.7C3\LOCALS~1\Temp\~DEST\0005iw\сканирование002.bmp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Друге чудо світу –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 “Висячі сади” Семірамі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" name="Picture 4" descr="C:\DOCUME~1\727B~1.7C3\LOCALS~1\Temp\~DEST\сканирование003.bmp"/>
          <p:cNvPicPr/>
          <p:nvPr/>
        </p:nvPicPr>
        <p:blipFill>
          <a:blip r:embed="rId1"/>
          <a:stretch/>
        </p:blipFill>
        <p:spPr>
          <a:xfrm>
            <a:off x="533520" y="15238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Times New Roman"/>
              </a:rPr>
              <a:t>Знайшов сади Семіраміди          Кольдевей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8305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Розгадали призначення відкопаної будівлі завдяки тому, що Кольдевей був не лише археологом, поетом, архітектором, а й глибоким знавцем історії каналізації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4" descr="C:\DOCUME~1\727B~1.7C3\LOCALS~1\Temp\~DEST\0008iw\сканирование002.bmp"/>
          <p:cNvPicPr/>
          <p:nvPr/>
        </p:nvPicPr>
        <p:blipFill>
          <a:blip r:embed="rId1"/>
          <a:stretch/>
        </p:blipFill>
        <p:spPr>
          <a:xfrm>
            <a:off x="228600" y="2286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cc00"/>
                </a:solidFill>
                <a:latin typeface="Times New Roman"/>
              </a:rPr>
              <a:t>Висячими називають сади, які ростуть , піднесені високо над землею...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Насамперед ставлять камінні стовпи, що приймають на себе вагу усієї будови; оздоблені вони утворюють залу або колонаду. На них лежать пальмові балки, лежать щільно припасовані, так що між ним бувають лише вузенькі шпари, пальма єдине дерево, яке, намокнувши, не набрякає, а коли висохне, знову вирівнюєтьс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На ті балки насипано товстий шар землі, а в ту землю посаджено шмроколисті й інші дерева, які ростуть в садах, також посаджено найрізноманітніші квіти- коротко сказати, усе, що очам любе, а мові приємн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8318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Перед тим як садити, усю площу кілька разів переорюють. Таким чином, над головами тих, хто гуляють між стовпами внизу, пролягає зоране поле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Реконструкція “висячіх садів” Семіраміди ( у розрізі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5" name="Picture 3" descr="C:\DOCUME~1\727B~1.7C3\LOCALS~1\Temp\~DEST\0007iw\сканирование002.bmp"/>
          <p:cNvPicPr/>
          <p:nvPr/>
        </p:nvPicPr>
        <p:blipFill>
          <a:blip r:embed="rId1"/>
          <a:stretch/>
        </p:blipFill>
        <p:spPr>
          <a:xfrm>
            <a:off x="0" y="0"/>
            <a:ext cx="876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Вода подається або силою воасного спаду, або її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піднімають по трубах спеціальні присторої, що використовують силу тиску, а також відповідні механізми, які складаються зі спіральних черпаків. Так піжтримуються вологість грунту, й ростуть там вічнозелені рослини й листяні дерева природної величини й сили з міцним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корінням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ДІМ РАДОСТІ І КРАСИ”,</a:t>
            </a:r>
            <a:r>
              <a:rPr b="0" lang="uk-UA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в якому слухає мелодію флейт і вірші поетів сама Семіраміда в шовкових шатах, а чорні раби з Ефіопії обвівають її опахалами із страусових пер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Використана література:</a:t>
            </a:r>
            <a:br>
              <a:rPr sz="4400"/>
            </a:b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Замаровський В.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ім чудес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віту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 Зі словацької переклали Василь та Борис Луцкевичі. Видавництво дитячої літератури “Веселка”,-Київ, 197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Висячі сади” Семіраміди були збудовані вавілонським царем Навуходоносором ІІ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( 605-562 рр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до Н. Хр.)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7 терас, кожна з яких являє собою самостійний сад, об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єдналися в єдиний ансамбль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Висячі сади” Семіраміди визнаються першим ботанічним садо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Мандруючи до другого чуда світу, ми попадемо в країну між двома ріками, де за біблійними переказами, був земний рай, у казкову країну, яку ми знаємо з “Тисячі та однієї ночі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610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cc"/>
                </a:solidFill>
                <a:latin typeface="Comic Sans MS"/>
              </a:rPr>
              <a:t>Ми попадемо в її столицю Вавілон, найбільше місто стародівнього світу й набільшу фортецю, у “барліг розбійників” і “найпихатіше царство”, яке  зникло з поверхні землі, коли закладалися підвалини Риму, але знову повстало не менш пишне, щоб кінець кінцем перетворитися на предмет археологічних досліджен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Багато змін зазнала ця країна, що має найдавнішу в світі історію, але назва її лишилася незмінною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МЕСОПОТАМІ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Назву цю придумали греки, йозначає вона – Мажріччя або Дворіччя, тобто країна між двома ріками – Євфратом і Тігром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Першим європейським мандрівником, який обійшов і описав ту країну, був Карстен Нібур ( 1733-1815). Подорожуючи навколо світу добувся він до Єгипту, Аравії та “навколишніх країн”, до Персії, де відвідав руїни стародавнього Персеполя 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( царського палацу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560" y="2409480"/>
            <a:ext cx="7596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mic Sans MS"/>
              </a:rPr>
              <a:t>Сходи персепольського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палацу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I-V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до н.е. Сучасний стан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C:\DOCUME~1\727B~1.7C3\LOCALS~1\Temp\~DEST\сканирование002.bmp"/>
          <p:cNvPicPr/>
          <p:nvPr/>
        </p:nvPicPr>
        <p:blipFill>
          <a:blip r:embed="rId1"/>
          <a:srcRect l="0" t="0" r="0" b="1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26:23Z</dcterms:created>
  <dc:creator>Рома и Аня</dc:creator>
  <dc:description/>
  <dc:language>en-US</dc:language>
  <cp:lastModifiedBy>user</cp:lastModifiedBy>
  <dcterms:modified xsi:type="dcterms:W3CDTF">2013-05-21T06:23:03Z</dcterms:modified>
  <cp:revision>7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f000000000001024140</vt:lpwstr>
  </property>
</Properties>
</file>