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28D-A017-4811-8661-28F25D2C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F6B-DA95-4DA8-ACED-AF1345B7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F12-69F4-42BE-8FB9-38997978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986-B171-4AA5-8B9D-30D44DFF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20CD-41F3-4BA6-ABB2-D6D4CF3C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CCAF-EF23-4C43-B60F-761DF847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5A0E-854C-43A3-9964-A9246208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A741-413F-457C-BFE8-33CA68B5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392D-26B3-4918-AE9F-783A99BD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F180-608D-45F5-BF2B-B98BBCE1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A27C-D9B3-4A5E-B5FD-AAF12C25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8D6-AA8B-4799-8AE4-2D4EBDE6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8AFB-E077-4BB2-87AD-519E8E5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D7CB-9707-43A2-B77E-6C9C2561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8A15-14D0-4CE4-8610-C60EFE42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749B-E2DB-463A-9E36-BB453DFB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7182-EEC4-4CD8-8564-686DC813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DB3-16B7-4C9D-A158-6F44D318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E44-ECC2-40AB-8E79-90985085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927-2082-4D9C-ACB8-0BF3AF48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108-F053-4D57-BCC7-3B67D772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FFB-09E3-4B32-A656-94088D93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712-B47E-4ADC-AA33-D0318B30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46A-3797-48ED-9D94-32E60450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F2D6-84EE-4205-87C9-5F20047E94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0B51-7E78-4953-9059-F8B24C75A54D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Myriad Web Pro Condensed"/>
              </a:rPr>
              <a:t>Поле</a:t>
            </a:r>
            <a:r>
              <a:rPr b="1" i="1" lang="uk-UA" sz="3200" spc="-1" strike="noStrike">
                <a:solidFill>
                  <a:srgbClr val="ffcc00"/>
                </a:solidFill>
                <a:latin typeface="Myriad Web Pro Condensed"/>
              </a:rPr>
              <a:t>хіна О.Л., </a:t>
            </a:r>
            <a:br>
              <a:rPr sz="3200"/>
            </a:br>
            <a:r>
              <a:rPr b="1" i="1" lang="uk-UA" sz="3200" spc="-1" strike="noStrike">
                <a:solidFill>
                  <a:srgbClr val="ffcc00"/>
                </a:solidFill>
                <a:latin typeface="Myriad Web Pro Condensed"/>
              </a:rPr>
              <a:t>вчитель образотворчого мистецтва КЗО “Середня загальноосвітня школа № 27”</a:t>
            </a:r>
            <a:br>
              <a:rPr sz="3200"/>
            </a:br>
            <a:r>
              <a:rPr b="1" i="1" lang="uk-UA" sz="3200" spc="-1" strike="noStrike">
                <a:solidFill>
                  <a:srgbClr val="ffcc00"/>
                </a:solidFill>
                <a:latin typeface="Myriad Web Pro Condensed"/>
              </a:rPr>
              <a:t>Дніпропетровської міської ради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56002b"/>
                </a:solidFill>
                <a:latin typeface="Comic Sans MS"/>
              </a:rPr>
              <a:t>“</a:t>
            </a:r>
            <a:r>
              <a:rPr b="0" i="1" lang="uk-UA" sz="4000" spc="-1" strike="noStrike">
                <a:solidFill>
                  <a:srgbClr val="56002b"/>
                </a:solidFill>
                <a:latin typeface="Comic Sans MS"/>
              </a:rPr>
              <a:t>ВИСЯЧІ САДИ СЕМІРАМІДИ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Myriad Web Pro Condensed"/>
              </a:rPr>
              <a:t>з циклу бесід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cc00"/>
                </a:solidFill>
                <a:latin typeface="Comic Sans MS"/>
              </a:rPr>
              <a:t>“</a:t>
            </a:r>
            <a:r>
              <a:rPr b="0" lang="uk-UA" sz="4800" spc="-1" strike="noStrike">
                <a:solidFill>
                  <a:srgbClr val="00cc00"/>
                </a:solidFill>
                <a:latin typeface="Comic Sans MS"/>
              </a:rPr>
              <a:t>Сім чудес світу”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Далі археологічні дослідження країни між двома річками розпочав Поль Еміль Ботта </a:t>
            </a:r>
            <a:br>
              <a:rPr sz="4400"/>
            </a:b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( 1802-1870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520" y="3123720"/>
            <a:ext cx="8534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Ще більшого                       успіху, ніж Ботта, добився своїми розкопками Остен Генрі Лейярд ( 1817-1894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38120" y="3045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Ще більшого                       успіху, ніж Ботта, добився своїми розкопками Остен Генрі Лейярд</a:t>
            </a:r>
            <a:br>
              <a:rPr sz="4000"/>
            </a:b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 ( 1817-1894).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4" descr="C:\DOCUME~1\727B~1.7C3\LOCALS~1\Temp\~DEST\0002iw\сканирование002.bmp"/>
          <p:cNvPicPr/>
          <p:nvPr/>
        </p:nvPicPr>
        <p:blipFill>
          <a:blip r:embed="rId1"/>
          <a:stretch/>
        </p:blipFill>
        <p:spPr>
          <a:xfrm>
            <a:off x="152280" y="457200"/>
            <a:ext cx="419112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214272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Частину своїх знахідок він показав 1854 року на виставці в Лондоні, де збудував навіть реконструйоване подвір”яасірійського царя з воєнними та мисливськими сценами, картинками облоги замку й життя двору тощо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cc"/>
                </a:solidFill>
                <a:latin typeface="Comic Sans MS"/>
              </a:rPr>
              <a:t>Зала Хорсабадського палац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( Реконструкція за Ботта і Лейярдом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4" descr="C:\DOCUME~1\727B~1.7C3\LOCALS~1\Temp\~DEST\0001iw\сканирование002.bmp"/>
          <p:cNvPicPr/>
          <p:nvPr/>
        </p:nvPicPr>
        <p:blipFill>
          <a:blip r:embed="rId1"/>
          <a:stretch/>
        </p:blipFill>
        <p:spPr>
          <a:xfrm>
            <a:off x="0" y="152280"/>
            <a:ext cx="899172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cc"/>
                </a:solidFill>
                <a:latin typeface="Comic Sans MS"/>
              </a:rPr>
              <a:t>Найбільшим відкриттям, яке на той час зробив Лейярд, був палац Ашшурбаніпала ІІ – один з найбільших палаців на берегах Тігру, а в ньому дві кімнати, повні книг. Книги на глиняних табличках. Бібліотека, що мала 20 000 табличок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51055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cc"/>
                </a:solidFill>
                <a:latin typeface="Times New Roman"/>
              </a:rPr>
              <a:t>Серед вавілонських чудес визначають вавілонські мури та Вавілонську вежу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Вавілон, що його відвідав Геродот, був Вавілон царя Навуходоносора ІІ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289548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Times New Roman"/>
              </a:rPr>
              <a:t>Серед вавілонських чудес визначають вавілонські мури та Вавілонську вежу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4" descr="C:\DOCUME~1\727B~1.7C3\LOCALS~1\Temp\~DEST\0003iw\сканирование002.bmp"/>
          <p:cNvPicPr/>
          <p:nvPr/>
        </p:nvPicPr>
        <p:blipFill>
          <a:blip r:embed="rId1"/>
          <a:stretch/>
        </p:blipFill>
        <p:spPr>
          <a:xfrm>
            <a:off x="2971800" y="228600"/>
            <a:ext cx="61722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Times New Roman"/>
              </a:rPr>
              <a:t>Рештки Вавілонської вежі, розкопані Кольдевеєм. Це все, що залишилося від споруди, “вершечок якої торкався неба”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6" descr="C:\DOCUME~1\727B~1.7C3\LOCALS~1\Temp\~DEST\0004iw\сканирование002.bmp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З усіх вавілонських чудес світу за найбільше вважали “висячі сади” Семіраміди. Не мури, що були ведетенські , не вежу, що була колосальна, не Мардуків шлях, що був лише монументальний, - а споруду, що визначалася всіма цими властивостями і крім них, ще й надзвичайною красою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8658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1030" descr="C:\DOCUME~1\727B~1.7C3\LOCALS~1\Temp\~DEST\0005iw\сканирование002.bmp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Arial Black"/>
              </a:rPr>
              <a:t>Друге чудо світу –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Arial Black"/>
              </a:rPr>
              <a:t> “Висячі сади” Семіраміди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3" name="Picture 4" descr="C:\DOCUME~1\727B~1.7C3\LOCALS~1\Temp\~DEST\сканирование003.bmp"/>
          <p:cNvPicPr/>
          <p:nvPr/>
        </p:nvPicPr>
        <p:blipFill>
          <a:blip r:embed="rId1"/>
          <a:stretch/>
        </p:blipFill>
        <p:spPr>
          <a:xfrm>
            <a:off x="533520" y="152388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Times New Roman"/>
              </a:rPr>
              <a:t>Знайшов сади Семіраміди          Кольдевей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160" y="3657600"/>
            <a:ext cx="8305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cc"/>
                </a:solidFill>
                <a:latin typeface="Times New Roman"/>
              </a:rPr>
              <a:t>Розгадали призначення відкопаної будівлі завдяки тому, що Кольдевей був не лише археологом, поетом, архітектором, а й глибоким знавцем історії каналізації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4" descr="C:\DOCUME~1\727B~1.7C3\LOCALS~1\Temp\~DEST\0008iw\сканирование002.bmp"/>
          <p:cNvPicPr/>
          <p:nvPr/>
        </p:nvPicPr>
        <p:blipFill>
          <a:blip r:embed="rId1"/>
          <a:stretch/>
        </p:blipFill>
        <p:spPr>
          <a:xfrm>
            <a:off x="228600" y="228600"/>
            <a:ext cx="26668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cc00"/>
                </a:solidFill>
                <a:latin typeface="Times New Roman"/>
              </a:rPr>
              <a:t>Висячими називають сади, які ростуть , піднесені високо над землею...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240" y="3049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cc"/>
                </a:solidFill>
                <a:latin typeface="Times New Roman"/>
              </a:rPr>
              <a:t>Насамперед ставлять камінні стовпи, що приймають на себе вагу усієї будови; оздоблені вони утворюють залу або колонаду. На них лежать пальмові балки, лежать щільно припасовані, так що між ним бувають лише вузенькі шпари, пальма єдине дерево, яке, намокнувши, не набрякає, а коли висохне, знову вирівнюєтьс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На ті балки насипано товстий шар землі, а в ту землю посаджено шмроколисті й інші дерева, які ростуть в садах, також посаджено найрізноманітніші квіти- коротко сказати, усе, що очам любе, а мові приємн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8318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Перед тим як садити, усю площу кілька разів переорюють. Таким чином, над головами тих, хто гуляють між стовпами внизу, пролягає зоране поле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Реконструкція “висячіх садів” Семіраміди ( у розрізі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5" name="Picture 3" descr="C:\DOCUME~1\727B~1.7C3\LOCALS~1\Temp\~DEST\0007iw\сканирование002.bmp"/>
          <p:cNvPicPr/>
          <p:nvPr/>
        </p:nvPicPr>
        <p:blipFill>
          <a:blip r:embed="rId1"/>
          <a:stretch/>
        </p:blipFill>
        <p:spPr>
          <a:xfrm>
            <a:off x="0" y="0"/>
            <a:ext cx="876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Times New Roman"/>
              </a:rPr>
              <a:t>Вода подається або силою воасного спаду, або її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cc00"/>
                </a:solidFill>
                <a:latin typeface="Times New Roman"/>
              </a:rPr>
              <a:t>піднімають по трубах спеціальні присторої, що використовують силу тиску, а також відповідні механізми, які складаються зі спіральних черпаків. Так піжтримуються вологість грунту, й ростуть там вічнозелені рослини й листяні дерева природної величини й сили з міцним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cc00"/>
                </a:solidFill>
                <a:latin typeface="Times New Roman"/>
              </a:rPr>
              <a:t>корінням.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ДІМ РАДОСТІ І КРАСИ”,</a:t>
            </a:r>
            <a:r>
              <a:rPr b="0" lang="uk-UA" sz="4400" spc="-1" strike="noStrike">
                <a:solidFill>
                  <a:srgbClr val="ffcc00"/>
                </a:solidFill>
                <a:latin typeface="Comic Sans MS"/>
              </a:rPr>
              <a:t> </a:t>
            </a:r>
            <a:br>
              <a:rPr sz="4400"/>
            </a:b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в якому слухає мелодію флейт і вірші поетів сама Семіраміда в шовкових шатах, а чорні раби з Ефіопії обвівають її опахалами із страусових пер..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 u="sng">
                <a:solidFill>
                  <a:srgbClr val="ffcc00"/>
                </a:solidFill>
                <a:uFillTx/>
                <a:latin typeface="Times New Roman"/>
              </a:rPr>
              <a:t>Використана література:</a:t>
            </a:r>
            <a:br>
              <a:rPr sz="4400"/>
            </a:b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Замаровський В. 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Сім чудес</a:t>
            </a: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світу</a:t>
            </a: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. Зі словацької переклали Василь та Борис Луцкевичі. Видавництво дитячої літератури “Веселка”,-Київ, 197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305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“</a:t>
            </a: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Висячі сади” Семіраміди були збудовані вавілонським царем Навуходоносором ІІ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( 605-562 рр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omic Sans MS"/>
              </a:rPr>
              <a:t>до Н. Хр.)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7 терас, кожна з яких являє собою самостійний сад, об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’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єдналися в єдиний ансамбль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80520" y="33523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uk-UA" sz="4400" spc="-1" strike="noStrike">
                <a:solidFill>
                  <a:srgbClr val="ffffcc"/>
                </a:solidFill>
                <a:latin typeface="Times New Roman"/>
              </a:rPr>
              <a:t>Висячі сади” Семіраміди визнаються першим ботанічним садом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Comic Sans MS"/>
              </a:rPr>
              <a:t>Мандруючи до другого чуда світу, ми попадемо в країну між двома ріками, де за біблійними переказами, був земний рай, у казкову країну, яку ми знаємо з “Тисячі та однієї ночі</a:t>
            </a:r>
            <a:r>
              <a:rPr b="1" lang="uk-UA" sz="4400" spc="-1" strike="noStrike">
                <a:solidFill>
                  <a:srgbClr val="ffcc00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6108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cc"/>
                </a:solidFill>
                <a:latin typeface="Comic Sans MS"/>
              </a:rPr>
              <a:t>Ми попадемо в її столицю Вавілон, найбільше місто стародівнього світу й набільшу фортецю, у “барліг розбійників” і “найпихатіше царство”, яке  зникло з поверхні землі, коли закладалися підвалини Риму, але знову повстало не менш пишне, щоб кінець кінцем перетворитися на предмет археологічних досліджень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Багато змін зазнала ця країна, що має найдавнішу в світі історію, але назва її лишилася незмінною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МЕСОПОТАМІ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Comic Sans MS"/>
              </a:rPr>
              <a:t>Назву цю придумали греки, йозначає вона – Мажріччя або Дворіччя, тобто країна між двома ріками – Євфратом і Тігром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Першим європейським мандрівником, який обійшов і описав ту країну, був Карстен Нібур ( 1733-1815). Подорожуючи навколо світу добувся він до Єгипту, Аравії та “навколишніх країн”, до Персії, де відвідав руїни стародавнього Персеполя </a:t>
            </a:r>
            <a:br>
              <a:rPr sz="4000"/>
            </a:br>
            <a:r>
              <a:rPr b="1" lang="uk-UA" sz="4000" spc="-1" strike="noStrike">
                <a:solidFill>
                  <a:srgbClr val="ffcc00"/>
                </a:solidFill>
                <a:latin typeface="Comic Sans MS"/>
              </a:rPr>
              <a:t>( царського палацу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560" y="2409480"/>
            <a:ext cx="7596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Comic Sans MS"/>
              </a:rPr>
              <a:t>Сходи персепольського</a:t>
            </a:r>
            <a:r>
              <a:rPr b="1" lang="uk-UA" sz="3600" spc="-1" strike="noStrike">
                <a:solidFill>
                  <a:srgbClr val="ffffcc"/>
                </a:solidFill>
                <a:latin typeface="Comic Sans MS"/>
              </a:rPr>
              <a:t> палацу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I-V</a:t>
            </a:r>
            <a:r>
              <a:rPr b="1" lang="uk-UA" sz="3600" spc="-1" strike="noStrike">
                <a:solidFill>
                  <a:srgbClr val="ffffcc"/>
                </a:solidFill>
                <a:latin typeface="Comic Sans MS"/>
              </a:rPr>
              <a:t> до н.е. Сучасний стан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C:\DOCUME~1\727B~1.7C3\LOCALS~1\Temp\~DEST\сканирование002.bmp"/>
          <p:cNvPicPr/>
          <p:nvPr/>
        </p:nvPicPr>
        <p:blipFill>
          <a:blip r:embed="rId1"/>
          <a:srcRect l="0" t="0" r="0" b="1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7:26:23Z</dcterms:created>
  <dc:creator>Рома и Аня</dc:creator>
  <dc:description/>
  <dc:language>en-US</dc:language>
  <cp:lastModifiedBy>user</cp:lastModifiedBy>
  <dcterms:modified xsi:type="dcterms:W3CDTF">2013-05-21T06:23:03Z</dcterms:modified>
  <cp:revision>7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f000000000001024140</vt:lpwstr>
  </property>
</Properties>
</file>